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lick.wav" ContentType="audio/x-wav"/>
  <Override PartName="/ppt/media/chimes.wav" ContentType="audio/x-wav"/>
  <Override PartName="/ppt/media/voltage.wav" ContentType="audio/x-wav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ECB-C71D-40FE-B06F-7CABE27A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632-3E2B-474E-B460-FC5308B3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37623-0B46-4CC7-859A-403B63E5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7C9DC-4A04-4213-B491-2AA01737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D193D-362C-4523-99C2-FDEA2191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D3AAC-A308-4CF6-AAB5-C78B9582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24CAB-3520-4BC3-9683-562C05C2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DA231-9876-4672-8CF6-9BA05221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C6DB6-8DAE-44A9-A285-3BBF97CE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8B23C-6BBC-4D7E-B44F-8EFA7050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DDFEC-A758-4143-B755-177E6F78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83FB5-31C2-402E-8438-3C1D5866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4D8-993C-4615-8AF4-96F5715D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3E898-B2BB-4034-8992-140FAF89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6A032-05E4-4A22-B84B-358AA15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4491C-94BA-4E08-9504-12DA05DD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D7245-7CE9-45A0-8656-46B798C6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7F446-FE11-47A6-9A18-7E318523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F331B-9409-4A80-BCB9-D4DE5AFF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99B2E-DEB8-47DC-BBDA-91A3A2E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F07C0-F830-49EC-8903-0F6EE201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E17B4-956B-4077-826D-0A0E2064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D3C45-110D-403B-A0FD-21CE4177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355-EEB5-44B1-9E16-566E6B5A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7BCAD-5031-400B-B719-2466E3BD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FBCC5-E06C-42B3-B529-47166BB1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06818-53D8-499E-9BE6-0F92B01A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D613-3D31-4517-B25F-DD5F037C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3AF98-39BA-4DA9-B38A-42CB556B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3ACCC-81C7-4A2F-ACAE-1584B3F4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296EE-40BD-4C34-AF6B-ED61AF9D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2ECB3-E811-44FA-A4DF-3809F441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BBE93-CF9E-418F-98EA-57B019C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B6FBC-D76D-40A5-A7CF-0DE96D7B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4D02-8A03-4A34-B4C5-6BB123F9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B4238-EF98-4FB5-BC76-ED2B6928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13B2C-2443-4FA6-B210-39A74A3C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B33E7-9046-4DD7-828D-549936BF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7089F-C602-45D7-A01D-99FFA168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76B27-8052-4E22-BF43-F8F7F3DD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53591-A66A-4244-B1C8-4FC38D72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355E2-C602-4F06-B2D6-4181CFBD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40381-ABE8-44E6-9515-05B23D0D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2C81F-0B80-474E-8AA3-920DFA79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33128-3993-43A8-91B3-9ED94B2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CEE0-3E11-47A7-906C-DF3640C1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7438C-D05A-4E67-850A-0794066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1DE22-FA0D-4DAA-8AC6-E2DC9BB1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6F781-80B7-492E-8387-1130F95B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9B05D-288E-46CB-BF0A-8A348A4E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D5CB5-DBF7-42B6-8B24-3DC50406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BA70-3A88-4EE7-BAC0-AFC65C55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1CAC-BEE4-4915-B2C2-08783B6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0280-EE4B-4CE4-9671-4C0CEA21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C2EE-AD26-459E-8D1B-AC7802BC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2BAD-3AA8-405B-B00C-8544D863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42A-2A8F-4667-BD5B-E7FE7FE1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ABC8-9527-4F10-A58F-F6994E7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EAA9-75DB-4624-9686-8424A1F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9973-C4CF-49E0-9D64-D579809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0D44-DE1E-4C73-A440-FDE638AD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E1CE-834A-4AC6-A0B7-6731C976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9145-4E82-4212-B4EE-EA1E7FC9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E0D1-04A4-4BF2-BEBF-4EA7A312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C5380-BC83-4328-80A6-62F050AB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533D-A384-45F1-9496-2677FBFA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C594-08D4-4E37-A79A-ABB453C7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106-CB3D-4D41-8A86-75921C2C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D0C2-6E82-468B-B0DB-FE30C1BE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234A-58B9-4009-9214-C7D2E81A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A034-1C11-4D78-88A0-76B3ACA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22CCC-D638-4BD8-95BC-8B9B835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277E-C657-4688-9B24-0C45380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C323-5C1F-47C6-9C1A-CBF0FD09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6D74-5053-4004-9FC7-6E1E7A44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A493-BCF5-434D-8D64-1778766A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0AB9-6571-4ADE-B905-D99CD9A8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4B7FD-296C-49F3-B40B-B66BCEA6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F4D-4196-4D56-8B46-BD30368F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23D99-0AFA-409F-A737-7ED578C1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96F50-ECD9-49F9-ADF4-8E609F4B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71FC-FA50-4945-A558-4710D7BD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9256B-0EF0-48A8-8B7F-4FCF404A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2DE3-73DD-479B-9387-81F1068E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7093-7646-40EE-9247-E55B6C01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C16F-A4C6-4703-840F-0F7FB3D0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A44A-0B0E-4932-BE50-8A1848E4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206E-2368-4AD4-8778-5B0704B5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C603-0356-4BBD-A260-6E568FCB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A64-B3C2-4787-B32F-B01FE874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EB5C8-DD1C-4D6F-9965-BB53E0E2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5321-E91B-4DEB-A881-31D06E24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0BAE7-BE2B-4DA8-A736-7171E3FE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2999-693A-4D93-A985-9B06578C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A46B-1745-472E-B64C-B0874042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6D49-726D-464B-AC48-58BD78A0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9B486-1BE9-4F8E-B157-B125A309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03F5-818E-4002-876C-CC639ED6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41DD5-2C0B-41E2-953F-A5055865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12FD-C7D4-4E67-9311-E50F4B21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571-49F6-42FE-805C-927B9B1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8844-B05F-4B7F-BBDD-07C8DEA0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9D307-B903-4F62-80DF-6D8C1336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D1515-7CB8-4A56-BD10-3C237BF4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1E00A-F881-4E30-8331-8289E88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AA1B2-9856-4B60-974B-2FF5303A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39B32-32BB-4860-A1FF-C5D58200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F1C4-BEDF-4360-976C-8F0F3632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64038-F425-42A5-8FBF-8958A129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DAFCD-B592-4C3C-88AF-36940778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73D02-A504-4F0B-BB29-B40541A6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E07-BD55-4C3A-831E-10096F4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0BDD2-3ABA-47F7-91F0-B0E43CBC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8B3E-F99D-4FDB-83CA-17B80DB2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C3A4-CF57-4F8A-ADD9-47DFB60D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EDAC-DBAE-4206-846F-0A3C45A5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A2173-784E-4F3D-812C-7391423E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D1A92-F317-4D1E-A0EC-8F879F05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6F62-3C73-4667-B3C9-C6B658EE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E235D-3B9C-4EB3-BE3D-6F3D936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C4B85-13F3-4474-B47C-D1178E26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1CC07-6947-45F2-BEFC-41316BD4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D80-EC49-4ED8-A27E-95DEE3C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7E96-E6B1-4AAC-BB60-3E8C8DCA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A3D6-3B50-4079-A094-01365D39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2F21B-C88B-48DD-956E-81F26C48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E2FD5-11CA-4D6E-B73F-087D7EE2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E0B59-1CE1-43DA-8EE7-4F99E340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2ABC1-1A8D-4BE6-AEB0-2887A5EA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ED159-4D3C-4254-9AB3-0560F625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5BDC4-920F-4BCA-BB36-50DB824F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BBA90-0F98-4D3D-8127-217A60B6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8706A-277B-481C-A8B5-119A7F63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DB5-6D8A-4BD8-912F-4F23697C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03927-596B-40BF-985D-4630E85B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E9272-2F8D-4B55-B168-F706C7CF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020C9-D532-4710-A8B1-DE28ECAC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6418A-FCEF-4F7D-8624-C415B7CD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9829D-3189-42E9-A38C-723023DF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A7198-9BEA-488F-9FAA-65BB54B9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3FA0B-CBFE-4127-B893-8968521E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FEDE2-4660-4A93-B97E-2A08D113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47270-430F-44A9-8501-AC671441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DF595-07C2-4C38-96B8-E643927E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C01F-8E27-451F-9478-3ED991CF63B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6945-19AA-408C-BC47-EE6D0C4DD41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F67A-516E-47CF-A1C6-84F70B64078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855C-6C2E-442F-9506-24CED031031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579B-1669-470E-B0BA-F28231437CC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7E21-E131-4DF6-A676-FDB9C227D56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CFD7-479B-47C8-8C80-AD53657E94E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BBC6-4902-4E8C-BD24-85A9F5D9CB7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6F9-96AB-4D33-BB51-4BC0982F104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7B83-F89C-4136-97DA-85050641F1B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4B73-932E-4F48-8A8A-F88B93FE7A8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7C73-930A-40F6-866C-4E5A59BB37B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audio" Target="../media/voltage.wav"/><Relationship Id="rId14" Type="http://schemas.openxmlformats.org/officeDocument/2006/relationships/audio" Target="../media/voltage.wav"/><Relationship Id="rId15" Type="http://schemas.openxmlformats.org/officeDocument/2006/relationships/audio" Target="../media/voltage.wav"/><Relationship Id="rId16" Type="http://schemas.openxmlformats.org/officeDocument/2006/relationships/audio" Target="../media/voltage.wav"/><Relationship Id="rId17" Type="http://schemas.openxmlformats.org/officeDocument/2006/relationships/audio" Target="../media/voltage.wav"/><Relationship Id="rId18" Type="http://schemas.openxmlformats.org/officeDocument/2006/relationships/audio" Target="../media/voltage.wav"/><Relationship Id="rId19" Type="http://schemas.openxmlformats.org/officeDocument/2006/relationships/audio" Target="../media/voltage.wav"/><Relationship Id="rId20" Type="http://schemas.openxmlformats.org/officeDocument/2006/relationships/audio" Target="../media/voltage.wav"/><Relationship Id="rId21" Type="http://schemas.openxmlformats.org/officeDocument/2006/relationships/audio" Target="../media/voltage.wav"/><Relationship Id="rId22" Type="http://schemas.openxmlformats.org/officeDocument/2006/relationships/audio" Target="../media/voltage.wav"/><Relationship Id="rId23" Type="http://schemas.openxmlformats.org/officeDocument/2006/relationships/audio" Target="../media/voltage.wav"/><Relationship Id="rId24" Type="http://schemas.openxmlformats.org/officeDocument/2006/relationships/audio" Target="../media/voltage.wav"/><Relationship Id="rId2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&#21475;&#32819;&#30446;&#29983;&#23383;.exe" TargetMode="External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"/>
          <p:cNvSpPr/>
          <p:nvPr/>
        </p:nvSpPr>
        <p:spPr>
          <a:xfrm>
            <a:off x="324000" y="333360"/>
            <a:ext cx="8820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7" name="Picture 6" descr="pic_30328"/>
          <p:cNvPicPr/>
          <p:nvPr/>
        </p:nvPicPr>
        <p:blipFill>
          <a:blip r:embed="rId1">
            <a:lum contrast="30000"/>
          </a:blip>
          <a:srcRect l="17266" t="20084" r="69111" b="57186"/>
          <a:stretch/>
        </p:blipFill>
        <p:spPr>
          <a:xfrm>
            <a:off x="3274920" y="2060640"/>
            <a:ext cx="2592360" cy="306864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13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Text Box 14"/>
          <p:cNvSpPr/>
          <p:nvPr/>
        </p:nvSpPr>
        <p:spPr>
          <a:xfrm>
            <a:off x="1651680" y="582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口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3663360" y="5103000"/>
            <a:ext cx="18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　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ě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r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　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1" name="Picture 16" descr="pic_30328"/>
          <p:cNvPicPr/>
          <p:nvPr/>
        </p:nvPicPr>
        <p:blipFill>
          <a:blip r:embed="rId2">
            <a:lum contrast="30000"/>
          </a:blip>
          <a:srcRect l="2886" t="20404" r="83491" b="57186"/>
          <a:stretch/>
        </p:blipFill>
        <p:spPr>
          <a:xfrm>
            <a:off x="466560" y="2133720"/>
            <a:ext cx="2592720" cy="3025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7" descr="pic_30328"/>
          <p:cNvPicPr/>
          <p:nvPr/>
        </p:nvPicPr>
        <p:blipFill>
          <a:blip r:embed="rId3">
            <a:lum contrast="30000"/>
          </a:blip>
          <a:srcRect l="32029" t="20411" r="54347" b="56659"/>
          <a:stretch/>
        </p:blipFill>
        <p:spPr>
          <a:xfrm>
            <a:off x="6083280" y="2060640"/>
            <a:ext cx="2592360" cy="30956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8"/>
          <p:cNvSpPr/>
          <p:nvPr/>
        </p:nvSpPr>
        <p:spPr>
          <a:xfrm>
            <a:off x="7268400" y="575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目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Rectangle 19"/>
          <p:cNvSpPr/>
          <p:nvPr/>
        </p:nvSpPr>
        <p:spPr>
          <a:xfrm>
            <a:off x="1468800" y="517536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k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ǒ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u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Rectangle 20"/>
          <p:cNvSpPr/>
          <p:nvPr/>
        </p:nvSpPr>
        <p:spPr>
          <a:xfrm>
            <a:off x="7040880" y="510372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m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Rectangle 21"/>
          <p:cNvSpPr/>
          <p:nvPr/>
        </p:nvSpPr>
        <p:spPr>
          <a:xfrm>
            <a:off x="4342680" y="575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WordArt 22"/>
          <p:cNvSpPr txBox="1"/>
          <p:nvPr/>
        </p:nvSpPr>
        <p:spPr>
          <a:xfrm>
            <a:off x="2700360" y="1052640"/>
            <a:ext cx="424800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33ff"/>
                  </a:outerShdw>
                </a:effectLst>
                <a:uFillTx/>
                <a:latin typeface="楷体_GB2312"/>
              </a:rPr>
              <a:t>看图读下面的字</a:t>
            </a:r>
            <a:endParaRPr b="1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33ff"/>
                </a:outerShdw>
              </a:effectLst>
              <a:uFillTx/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1619280" y="1916280"/>
            <a:ext cx="6840360" cy="373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这些字与它所表示的实物非常像，这样的字叫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—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象形字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4665960" y="292428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用上面的方法学习下面的字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pic_30328"/>
          <p:cNvPicPr/>
          <p:nvPr/>
        </p:nvPicPr>
        <p:blipFill>
          <a:blip r:embed="rId1">
            <a:lum contrast="24000"/>
          </a:blip>
          <a:srcRect l="53519" t="19931" r="32711" b="57092"/>
          <a:stretch/>
        </p:blipFill>
        <p:spPr>
          <a:xfrm>
            <a:off x="1258920" y="1197000"/>
            <a:ext cx="3163680" cy="374472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3"/>
          <p:cNvSpPr/>
          <p:nvPr/>
        </p:nvSpPr>
        <p:spPr>
          <a:xfrm>
            <a:off x="6219360" y="2205000"/>
            <a:ext cx="790200" cy="24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rì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日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pic_30328"/>
          <p:cNvPicPr/>
          <p:nvPr/>
        </p:nvPicPr>
        <p:blipFill>
          <a:blip r:embed="rId1">
            <a:lum contrast="24000"/>
          </a:blip>
          <a:srcRect l="68325" t="20417" r="17914" b="56779"/>
          <a:stretch/>
        </p:blipFill>
        <p:spPr>
          <a:xfrm>
            <a:off x="1158840" y="1268280"/>
            <a:ext cx="3125880" cy="36734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"/>
          <p:cNvSpPr/>
          <p:nvPr/>
        </p:nvSpPr>
        <p:spPr>
          <a:xfrm>
            <a:off x="5460120" y="2169360"/>
            <a:ext cx="1162080" cy="26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yuè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月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pic_30328"/>
          <p:cNvPicPr/>
          <p:nvPr/>
        </p:nvPicPr>
        <p:blipFill>
          <a:blip r:embed="rId1">
            <a:lum contrast="24000"/>
          </a:blip>
          <a:srcRect l="82781" t="19931" r="3458" b="57272"/>
          <a:stretch/>
        </p:blipFill>
        <p:spPr>
          <a:xfrm>
            <a:off x="971640" y="1125360"/>
            <a:ext cx="3247920" cy="38163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5370120" y="1891800"/>
            <a:ext cx="1230840" cy="282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huǒ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火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4272480" y="907920"/>
            <a:ext cx="1690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拼一拼，读一读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1835280" y="2781360"/>
            <a:ext cx="7056360" cy="388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k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ǒ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u    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ě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r    mù 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y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ng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niǎo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tù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口   耳   目   羊   鸟   兔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rì    yuè  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huǒ  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mù     hé    zh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日   月   火   木   禾   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6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1" name="Group 40"/>
          <p:cNvGrpSpPr/>
          <p:nvPr/>
        </p:nvGrpSpPr>
        <p:grpSpPr>
          <a:xfrm>
            <a:off x="7453440" y="4878360"/>
            <a:ext cx="1050840" cy="942840"/>
            <a:chOff x="7453440" y="4878360"/>
            <a:chExt cx="1050840" cy="942840"/>
          </a:xfrm>
        </p:grpSpPr>
        <p:pic>
          <p:nvPicPr>
            <p:cNvPr id="582" name="Picture 9" descr="2"/>
            <p:cNvPicPr/>
            <p:nvPr/>
          </p:nvPicPr>
          <p:blipFill>
            <a:blip r:embed="rId1"/>
            <a:stretch/>
          </p:blipFill>
          <p:spPr>
            <a:xfrm>
              <a:off x="7453440" y="4878360"/>
              <a:ext cx="1050840" cy="942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583" name="Rectangle 17"/>
            <p:cNvSpPr/>
            <p:nvPr/>
          </p:nvSpPr>
          <p:spPr>
            <a:xfrm>
              <a:off x="7771680" y="501336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竹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84" name="Group 39"/>
          <p:cNvGrpSpPr/>
          <p:nvPr/>
        </p:nvGrpSpPr>
        <p:grpSpPr>
          <a:xfrm>
            <a:off x="5653080" y="4878360"/>
            <a:ext cx="1050840" cy="942840"/>
            <a:chOff x="5653080" y="4878360"/>
            <a:chExt cx="1050840" cy="942840"/>
          </a:xfrm>
        </p:grpSpPr>
        <p:pic>
          <p:nvPicPr>
            <p:cNvPr id="585" name="Picture 8" descr="2"/>
            <p:cNvPicPr/>
            <p:nvPr/>
          </p:nvPicPr>
          <p:blipFill>
            <a:blip r:embed="rId2"/>
            <a:stretch/>
          </p:blipFill>
          <p:spPr>
            <a:xfrm>
              <a:off x="5653080" y="4878360"/>
              <a:ext cx="1050840" cy="942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586" name="Rectangle 18"/>
            <p:cNvSpPr/>
            <p:nvPr/>
          </p:nvSpPr>
          <p:spPr>
            <a:xfrm>
              <a:off x="5971320" y="501336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禾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87" name="Group 38"/>
          <p:cNvGrpSpPr/>
          <p:nvPr/>
        </p:nvGrpSpPr>
        <p:grpSpPr>
          <a:xfrm>
            <a:off x="3852720" y="4878360"/>
            <a:ext cx="1051200" cy="942840"/>
            <a:chOff x="3852720" y="4878360"/>
            <a:chExt cx="1051200" cy="942840"/>
          </a:xfrm>
        </p:grpSpPr>
        <p:pic>
          <p:nvPicPr>
            <p:cNvPr id="588" name="Picture 7" descr="2"/>
            <p:cNvPicPr/>
            <p:nvPr/>
          </p:nvPicPr>
          <p:blipFill>
            <a:blip r:embed="rId3"/>
            <a:stretch/>
          </p:blipFill>
          <p:spPr>
            <a:xfrm>
              <a:off x="3852720" y="4878360"/>
              <a:ext cx="1051200" cy="942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589" name="Rectangle 19"/>
            <p:cNvSpPr/>
            <p:nvPr/>
          </p:nvSpPr>
          <p:spPr>
            <a:xfrm>
              <a:off x="4099680" y="501336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木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0" name="Group 37"/>
          <p:cNvGrpSpPr/>
          <p:nvPr/>
        </p:nvGrpSpPr>
        <p:grpSpPr>
          <a:xfrm>
            <a:off x="2081160" y="4805280"/>
            <a:ext cx="1050840" cy="943200"/>
            <a:chOff x="2081160" y="4805280"/>
            <a:chExt cx="1050840" cy="943200"/>
          </a:xfrm>
        </p:grpSpPr>
        <p:pic>
          <p:nvPicPr>
            <p:cNvPr id="591" name="Picture 6" descr="2"/>
            <p:cNvPicPr/>
            <p:nvPr/>
          </p:nvPicPr>
          <p:blipFill>
            <a:blip r:embed="rId4"/>
            <a:stretch/>
          </p:blipFill>
          <p:spPr>
            <a:xfrm>
              <a:off x="2081160" y="4805280"/>
              <a:ext cx="1050840" cy="943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592" name="Rectangle 20"/>
            <p:cNvSpPr/>
            <p:nvPr/>
          </p:nvSpPr>
          <p:spPr>
            <a:xfrm>
              <a:off x="2372400" y="501336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火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3" name="Group 35"/>
          <p:cNvGrpSpPr/>
          <p:nvPr/>
        </p:nvGrpSpPr>
        <p:grpSpPr>
          <a:xfrm>
            <a:off x="5681520" y="3444840"/>
            <a:ext cx="1051200" cy="942840"/>
            <a:chOff x="5681520" y="3444840"/>
            <a:chExt cx="1051200" cy="942840"/>
          </a:xfrm>
        </p:grpSpPr>
        <p:pic>
          <p:nvPicPr>
            <p:cNvPr id="594" name="Picture 11" descr="2"/>
            <p:cNvPicPr/>
            <p:nvPr/>
          </p:nvPicPr>
          <p:blipFill>
            <a:blip r:embed="rId5"/>
            <a:stretch/>
          </p:blipFill>
          <p:spPr>
            <a:xfrm>
              <a:off x="5681520" y="3444840"/>
              <a:ext cx="1051200" cy="942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595" name="Rectangle 21"/>
            <p:cNvSpPr/>
            <p:nvPr/>
          </p:nvSpPr>
          <p:spPr>
            <a:xfrm>
              <a:off x="5971320" y="357336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月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6" name="Group 34"/>
          <p:cNvGrpSpPr/>
          <p:nvPr/>
        </p:nvGrpSpPr>
        <p:grpSpPr>
          <a:xfrm>
            <a:off x="3852720" y="3444840"/>
            <a:ext cx="1051200" cy="942840"/>
            <a:chOff x="3852720" y="3444840"/>
            <a:chExt cx="1051200" cy="942840"/>
          </a:xfrm>
        </p:grpSpPr>
        <p:pic>
          <p:nvPicPr>
            <p:cNvPr id="597" name="Picture 10" descr="2"/>
            <p:cNvPicPr/>
            <p:nvPr/>
          </p:nvPicPr>
          <p:blipFill>
            <a:blip r:embed="rId6"/>
            <a:stretch/>
          </p:blipFill>
          <p:spPr>
            <a:xfrm>
              <a:off x="3852720" y="3444840"/>
              <a:ext cx="1051200" cy="942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598" name="Rectangle 22"/>
            <p:cNvSpPr/>
            <p:nvPr/>
          </p:nvSpPr>
          <p:spPr>
            <a:xfrm>
              <a:off x="4171320" y="357336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日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9" name="Group 36"/>
          <p:cNvGrpSpPr/>
          <p:nvPr/>
        </p:nvGrpSpPr>
        <p:grpSpPr>
          <a:xfrm>
            <a:off x="7453440" y="3436920"/>
            <a:ext cx="1050840" cy="942840"/>
            <a:chOff x="7453440" y="3436920"/>
            <a:chExt cx="1050840" cy="942840"/>
          </a:xfrm>
        </p:grpSpPr>
        <p:pic>
          <p:nvPicPr>
            <p:cNvPr id="600" name="Picture 12" descr="2"/>
            <p:cNvPicPr/>
            <p:nvPr/>
          </p:nvPicPr>
          <p:blipFill>
            <a:blip r:embed="rId7"/>
            <a:stretch/>
          </p:blipFill>
          <p:spPr>
            <a:xfrm>
              <a:off x="7453440" y="3436920"/>
              <a:ext cx="1050840" cy="942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601" name="Rectangle 23"/>
            <p:cNvSpPr/>
            <p:nvPr/>
          </p:nvSpPr>
          <p:spPr>
            <a:xfrm>
              <a:off x="7727040" y="350028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兔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2" name="Group 33"/>
          <p:cNvGrpSpPr/>
          <p:nvPr/>
        </p:nvGrpSpPr>
        <p:grpSpPr>
          <a:xfrm>
            <a:off x="2081160" y="3436920"/>
            <a:ext cx="1050840" cy="942840"/>
            <a:chOff x="2081160" y="3436920"/>
            <a:chExt cx="1050840" cy="942840"/>
          </a:xfrm>
        </p:grpSpPr>
        <p:pic>
          <p:nvPicPr>
            <p:cNvPr id="603" name="Picture 5" descr="2"/>
            <p:cNvPicPr/>
            <p:nvPr/>
          </p:nvPicPr>
          <p:blipFill>
            <a:blip r:embed="rId8"/>
            <a:stretch/>
          </p:blipFill>
          <p:spPr>
            <a:xfrm>
              <a:off x="2081160" y="3436920"/>
              <a:ext cx="1050840" cy="942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604" name="Rectangle 24"/>
            <p:cNvSpPr/>
            <p:nvPr/>
          </p:nvSpPr>
          <p:spPr>
            <a:xfrm>
              <a:off x="2372400" y="357336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鸟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5" name="Group 32"/>
          <p:cNvGrpSpPr/>
          <p:nvPr/>
        </p:nvGrpSpPr>
        <p:grpSpPr>
          <a:xfrm>
            <a:off x="7481880" y="1996920"/>
            <a:ext cx="1050840" cy="943200"/>
            <a:chOff x="7481880" y="1996920"/>
            <a:chExt cx="1050840" cy="943200"/>
          </a:xfrm>
        </p:grpSpPr>
        <p:pic>
          <p:nvPicPr>
            <p:cNvPr id="606" name="Picture 15" descr="2"/>
            <p:cNvPicPr/>
            <p:nvPr/>
          </p:nvPicPr>
          <p:blipFill>
            <a:blip r:embed="rId9"/>
            <a:stretch/>
          </p:blipFill>
          <p:spPr>
            <a:xfrm>
              <a:off x="7481880" y="1996920"/>
              <a:ext cx="1050840" cy="943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607" name="Rectangle 25"/>
            <p:cNvSpPr/>
            <p:nvPr/>
          </p:nvSpPr>
          <p:spPr>
            <a:xfrm>
              <a:off x="7771680" y="213372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羊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8" name="Group 31"/>
          <p:cNvGrpSpPr/>
          <p:nvPr/>
        </p:nvGrpSpPr>
        <p:grpSpPr>
          <a:xfrm>
            <a:off x="5681520" y="2004840"/>
            <a:ext cx="1051200" cy="943200"/>
            <a:chOff x="5681520" y="2004840"/>
            <a:chExt cx="1051200" cy="943200"/>
          </a:xfrm>
        </p:grpSpPr>
        <p:pic>
          <p:nvPicPr>
            <p:cNvPr id="609" name="Picture 14" descr="2"/>
            <p:cNvPicPr/>
            <p:nvPr/>
          </p:nvPicPr>
          <p:blipFill>
            <a:blip r:embed="rId10"/>
            <a:stretch/>
          </p:blipFill>
          <p:spPr>
            <a:xfrm>
              <a:off x="5681520" y="2004840"/>
              <a:ext cx="1051200" cy="943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610" name="Rectangle 26"/>
            <p:cNvSpPr/>
            <p:nvPr/>
          </p:nvSpPr>
          <p:spPr>
            <a:xfrm>
              <a:off x="5971320" y="213372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目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1" name="Group 30"/>
          <p:cNvGrpSpPr/>
          <p:nvPr/>
        </p:nvGrpSpPr>
        <p:grpSpPr>
          <a:xfrm>
            <a:off x="3809880" y="2004840"/>
            <a:ext cx="1051200" cy="943200"/>
            <a:chOff x="3809880" y="2004840"/>
            <a:chExt cx="1051200" cy="943200"/>
          </a:xfrm>
        </p:grpSpPr>
        <p:pic>
          <p:nvPicPr>
            <p:cNvPr id="612" name="Picture 13" descr="2"/>
            <p:cNvPicPr/>
            <p:nvPr/>
          </p:nvPicPr>
          <p:blipFill>
            <a:blip r:embed="rId11"/>
            <a:stretch/>
          </p:blipFill>
          <p:spPr>
            <a:xfrm>
              <a:off x="3809880" y="2004840"/>
              <a:ext cx="1051200" cy="943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613" name="Rectangle 27"/>
            <p:cNvSpPr/>
            <p:nvPr/>
          </p:nvSpPr>
          <p:spPr>
            <a:xfrm>
              <a:off x="4099680" y="213372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耳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4" name="Group 29"/>
          <p:cNvGrpSpPr/>
          <p:nvPr/>
        </p:nvGrpSpPr>
        <p:grpSpPr>
          <a:xfrm>
            <a:off x="2052720" y="2004840"/>
            <a:ext cx="1050840" cy="943200"/>
            <a:chOff x="2052720" y="2004840"/>
            <a:chExt cx="1050840" cy="943200"/>
          </a:xfrm>
        </p:grpSpPr>
        <p:pic>
          <p:nvPicPr>
            <p:cNvPr id="615" name="Picture 4" descr="2"/>
            <p:cNvPicPr/>
            <p:nvPr/>
          </p:nvPicPr>
          <p:blipFill>
            <a:blip r:embed="rId12"/>
            <a:stretch/>
          </p:blipFill>
          <p:spPr>
            <a:xfrm>
              <a:off x="2052720" y="2004840"/>
              <a:ext cx="1050840" cy="943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</p:pic>
        <p:sp>
          <p:nvSpPr>
            <p:cNvPr id="616" name="Rectangle 28"/>
            <p:cNvSpPr/>
            <p:nvPr/>
          </p:nvSpPr>
          <p:spPr>
            <a:xfrm>
              <a:off x="2372400" y="213372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ffff"/>
                  </a:solidFill>
                  <a:uFillTx/>
                  <a:latin typeface="Arial"/>
                  <a:ea typeface="楷体_GB2312"/>
                </a:rPr>
                <a:t>口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594800" y="2852640"/>
            <a:ext cx="65815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十     木      禾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口     日      目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WordArt 5"/>
          <p:cNvSpPr txBox="1"/>
          <p:nvPr/>
        </p:nvSpPr>
        <p:spPr>
          <a:xfrm>
            <a:off x="3564000" y="1268280"/>
            <a:ext cx="273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uFillTx/>
                <a:latin typeface="楷体_GB2312"/>
              </a:rPr>
              <a:t>形近字</a:t>
            </a:r>
            <a:endParaRPr b="1" i="1" lang="en-US" sz="2400" spc="1" strike="noStrike" u="sng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33">
            <a:hlinkClick r:id="rId1"/>
          </p:cNvPr>
          <p:cNvSpPr/>
          <p:nvPr/>
        </p:nvSpPr>
        <p:spPr>
          <a:xfrm>
            <a:off x="4140360" y="501336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7301"/>
                </a:moveTo>
                <a:lnTo>
                  <a:pt x="15501" y="7301"/>
                </a:lnTo>
                <a:lnTo>
                  <a:pt x="15884" y="7667"/>
                </a:lnTo>
                <a:lnTo>
                  <a:pt x="25093" y="7667"/>
                </a:lnTo>
                <a:lnTo>
                  <a:pt x="25650" y="8224"/>
                </a:lnTo>
                <a:lnTo>
                  <a:pt x="25650" y="8772"/>
                </a:lnTo>
                <a:lnTo>
                  <a:pt x="27495" y="8772"/>
                </a:lnTo>
                <a:lnTo>
                  <a:pt x="27861" y="8224"/>
                </a:lnTo>
                <a:lnTo>
                  <a:pt x="28600" y="8224"/>
                </a:lnTo>
                <a:lnTo>
                  <a:pt x="28600" y="13376"/>
                </a:lnTo>
                <a:lnTo>
                  <a:pt x="27861" y="13376"/>
                </a:lnTo>
                <a:lnTo>
                  <a:pt x="27495" y="12828"/>
                </a:lnTo>
                <a:lnTo>
                  <a:pt x="25650" y="12828"/>
                </a:lnTo>
                <a:lnTo>
                  <a:pt x="25650" y="14107"/>
                </a:lnTo>
                <a:lnTo>
                  <a:pt x="16067" y="14107"/>
                </a:lnTo>
                <a:lnTo>
                  <a:pt x="16067" y="9877"/>
                </a:lnTo>
                <a:lnTo>
                  <a:pt x="15884" y="9877"/>
                </a:lnTo>
                <a:lnTo>
                  <a:pt x="15501" y="10243"/>
                </a:lnTo>
                <a:lnTo>
                  <a:pt x="14588" y="10243"/>
                </a:lnTo>
                <a:close/>
              </a:path>
            </a:pathLst>
          </a:custGeom>
          <a:solidFill>
            <a:srgbClr val="ccccff">
              <a:alpha val="46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Text Box 35"/>
          <p:cNvSpPr/>
          <p:nvPr/>
        </p:nvSpPr>
        <p:spPr>
          <a:xfrm>
            <a:off x="4238280" y="602136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87229"/>
                </a:solidFill>
                <a:uFillTx/>
                <a:latin typeface="Arial"/>
                <a:ea typeface="楷体_GB2312"/>
              </a:rPr>
              <a:t>动画演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 Box 55"/>
          <p:cNvSpPr/>
          <p:nvPr/>
        </p:nvSpPr>
        <p:spPr>
          <a:xfrm>
            <a:off x="4015800" y="857160"/>
            <a:ext cx="152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会写的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3" name="Group 103"/>
          <p:cNvGrpSpPr/>
          <p:nvPr/>
        </p:nvGrpSpPr>
        <p:grpSpPr>
          <a:xfrm>
            <a:off x="2986200" y="2925720"/>
            <a:ext cx="3673440" cy="1224000"/>
            <a:chOff x="2986200" y="2925720"/>
            <a:chExt cx="3673440" cy="1224000"/>
          </a:xfrm>
        </p:grpSpPr>
        <p:grpSp>
          <p:nvGrpSpPr>
            <p:cNvPr id="624" name="Group 36"/>
            <p:cNvGrpSpPr/>
            <p:nvPr/>
          </p:nvGrpSpPr>
          <p:grpSpPr>
            <a:xfrm>
              <a:off x="4211640" y="2925720"/>
              <a:ext cx="1224000" cy="1224000"/>
              <a:chOff x="4211640" y="2925720"/>
              <a:chExt cx="1224000" cy="1224000"/>
            </a:xfrm>
          </p:grpSpPr>
          <p:sp>
            <p:nvSpPr>
              <p:cNvPr id="625" name="Rectangle 37"/>
              <p:cNvSpPr/>
              <p:nvPr/>
            </p:nvSpPr>
            <p:spPr>
              <a:xfrm>
                <a:off x="4211640" y="292572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6" name="Line 38"/>
              <p:cNvSpPr/>
              <p:nvPr/>
            </p:nvSpPr>
            <p:spPr>
              <a:xfrm flipH="1">
                <a:off x="4211640" y="353772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7" name="Line 39"/>
              <p:cNvSpPr/>
              <p:nvPr/>
            </p:nvSpPr>
            <p:spPr>
              <a:xfrm>
                <a:off x="4824000" y="295596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28" name="Group 40"/>
            <p:cNvGrpSpPr/>
            <p:nvPr/>
          </p:nvGrpSpPr>
          <p:grpSpPr>
            <a:xfrm>
              <a:off x="5435640" y="2925720"/>
              <a:ext cx="1224000" cy="1224000"/>
              <a:chOff x="5435640" y="2925720"/>
              <a:chExt cx="1224000" cy="1224000"/>
            </a:xfrm>
          </p:grpSpPr>
          <p:sp>
            <p:nvSpPr>
              <p:cNvPr id="629" name="Rectangle 41"/>
              <p:cNvSpPr/>
              <p:nvPr/>
            </p:nvSpPr>
            <p:spPr>
              <a:xfrm>
                <a:off x="5435640" y="292572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0" name="Line 42"/>
              <p:cNvSpPr/>
              <p:nvPr/>
            </p:nvSpPr>
            <p:spPr>
              <a:xfrm flipH="1">
                <a:off x="5435640" y="353772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>
                <a:off x="6048000" y="295596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32" name="Group 60"/>
            <p:cNvGrpSpPr/>
            <p:nvPr/>
          </p:nvGrpSpPr>
          <p:grpSpPr>
            <a:xfrm>
              <a:off x="2986200" y="2925720"/>
              <a:ext cx="1224000" cy="1224000"/>
              <a:chOff x="2986200" y="2925720"/>
              <a:chExt cx="1224000" cy="1224000"/>
            </a:xfrm>
          </p:grpSpPr>
          <p:sp>
            <p:nvSpPr>
              <p:cNvPr id="633" name="Rectangle 61"/>
              <p:cNvSpPr/>
              <p:nvPr/>
            </p:nvSpPr>
            <p:spPr>
              <a:xfrm>
                <a:off x="2986200" y="292572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4" name="Line 62"/>
              <p:cNvSpPr/>
              <p:nvPr/>
            </p:nvSpPr>
            <p:spPr>
              <a:xfrm flipH="1">
                <a:off x="2986200" y="353772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5" name="Line 63"/>
              <p:cNvSpPr/>
              <p:nvPr/>
            </p:nvSpPr>
            <p:spPr>
              <a:xfrm>
                <a:off x="3598560" y="295596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36" name="Text Box 54"/>
            <p:cNvSpPr/>
            <p:nvPr/>
          </p:nvSpPr>
          <p:spPr>
            <a:xfrm>
              <a:off x="3059280" y="2925720"/>
              <a:ext cx="360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7200" spc="-1" strike="noStrike" u="sng">
                  <a:solidFill>
                    <a:srgbClr val="ff3300"/>
                  </a:solidFill>
                  <a:uFillTx/>
                  <a:latin typeface="Arial"/>
                  <a:ea typeface="楷体_GB2312"/>
                </a:rPr>
                <a:t>十木禾</a:t>
              </a:r>
              <a:endParaRPr b="0" i="1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37" name="Text Box 10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250920" y="404640"/>
            <a:ext cx="889308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9" name="Picture 4" descr="pic_30329"/>
          <p:cNvPicPr/>
          <p:nvPr/>
        </p:nvPicPr>
        <p:blipFill>
          <a:blip r:embed="rId1">
            <a:lum contrast="30000"/>
          </a:blip>
          <a:srcRect l="11202" t="55326" r="77980" b="5999"/>
          <a:stretch/>
        </p:blipFill>
        <p:spPr>
          <a:xfrm>
            <a:off x="1347840" y="1989000"/>
            <a:ext cx="1711440" cy="43419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5" descr="pic_30329"/>
          <p:cNvPicPr/>
          <p:nvPr/>
        </p:nvPicPr>
        <p:blipFill>
          <a:blip r:embed="rId2">
            <a:lum contrast="30000"/>
          </a:blip>
          <a:srcRect l="20989" t="55326" r="67176" b="5999"/>
          <a:stretch/>
        </p:blipFill>
        <p:spPr>
          <a:xfrm>
            <a:off x="3922560" y="1989000"/>
            <a:ext cx="1873440" cy="43434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pic_30329"/>
          <p:cNvPicPr/>
          <p:nvPr/>
        </p:nvPicPr>
        <p:blipFill>
          <a:blip r:embed="rId3">
            <a:lum contrast="30000"/>
          </a:blip>
          <a:srcRect l="31798" t="55326" r="53780" b="5999"/>
          <a:stretch/>
        </p:blipFill>
        <p:spPr>
          <a:xfrm>
            <a:off x="6732720" y="1893960"/>
            <a:ext cx="228276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9"/>
          <p:cNvSpPr/>
          <p:nvPr/>
        </p:nvSpPr>
        <p:spPr>
          <a:xfrm>
            <a:off x="4173480" y="692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连一连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Line 10"/>
          <p:cNvSpPr/>
          <p:nvPr/>
        </p:nvSpPr>
        <p:spPr>
          <a:xfrm flipH="1">
            <a:off x="2338200" y="2997360"/>
            <a:ext cx="1871640" cy="201600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Line 11"/>
          <p:cNvSpPr/>
          <p:nvPr/>
        </p:nvSpPr>
        <p:spPr>
          <a:xfrm flipV="1">
            <a:off x="5364000" y="3357360"/>
            <a:ext cx="1513080" cy="4316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5435640" y="4869000"/>
            <a:ext cx="1728720" cy="43164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Line 13"/>
          <p:cNvSpPr/>
          <p:nvPr/>
        </p:nvSpPr>
        <p:spPr>
          <a:xfrm flipH="1" flipV="1">
            <a:off x="2340000" y="3357360"/>
            <a:ext cx="1727280" cy="237636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heel spokes="8"/>
    <p:sndAc>
      <p:stSnd>
        <p:snd r:embed="rId4" name="chimes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4"/>
          <p:cNvSpPr/>
          <p:nvPr/>
        </p:nvSpPr>
        <p:spPr>
          <a:xfrm>
            <a:off x="1619280" y="2444760"/>
            <a:ext cx="7416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说说你分别是怎么认识这三个字的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763640" y="4581360"/>
            <a:ext cx="73454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这节课我们就运用这些方法来认识更多的字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3313800" y="2062080"/>
            <a:ext cx="285552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7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11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4" name="Picture 6" descr="pic_30328"/>
          <p:cNvPicPr/>
          <p:nvPr/>
        </p:nvPicPr>
        <p:blipFill>
          <a:blip r:embed="rId1">
            <a:lum contrast="18000"/>
          </a:blip>
          <a:srcRect l="2692" t="55853" r="83543" b="21044"/>
          <a:stretch/>
        </p:blipFill>
        <p:spPr>
          <a:xfrm>
            <a:off x="1042920" y="119700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8"/>
          <p:cNvSpPr/>
          <p:nvPr/>
        </p:nvSpPr>
        <p:spPr>
          <a:xfrm>
            <a:off x="4427640" y="1413000"/>
            <a:ext cx="4476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“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羊”字的上面是羊的两个犄角，三横是羊的五官，一竖是羊的胡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2258280" y="5157720"/>
            <a:ext cx="79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羊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6810480" y="5661000"/>
            <a:ext cx="4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山羊、绵羊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593160" y="5588640"/>
            <a:ext cx="1400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y</a:t>
            </a: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200"/>
                            </p:stCondLst>
                            <p:childTnLst>
                              <p:par>
                                <p:cTn id="10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7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pic_30328"/>
          <p:cNvPicPr/>
          <p:nvPr/>
        </p:nvPicPr>
        <p:blipFill>
          <a:blip r:embed="rId1">
            <a:lum contrast="24000"/>
          </a:blip>
          <a:srcRect l="17498" t="55759" r="68921" b="21111"/>
          <a:stretch/>
        </p:blipFill>
        <p:spPr>
          <a:xfrm>
            <a:off x="900000" y="119700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4211640" y="1289880"/>
            <a:ext cx="4788000" cy="360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鸟字的上半部像鸟头，下半部像鸟的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子，一横像那根树枝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一点像鸟的眼睛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475720" y="5300640"/>
            <a:ext cx="79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鸟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3754800" y="5761440"/>
            <a:ext cx="12387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i</a:t>
            </a: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ǎ</a:t>
            </a: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o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6883560" y="5805360"/>
            <a:ext cx="4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小鸟、鸟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700"/>
                            </p:stCondLst>
                            <p:childTnLst>
                              <p:par>
                                <p:cTn id="1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200"/>
                            </p:stCondLst>
                            <p:childTnLst>
                              <p:par>
                                <p:cTn id="1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4427640" y="1197000"/>
            <a:ext cx="4476600" cy="22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上面像兔子的两只耳朵，中间的口像兔子的头，下面像兔子的身体和爪子，一点像兔子的短尾巴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2258280" y="5157720"/>
            <a:ext cx="79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兔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6767640" y="5661000"/>
            <a:ext cx="71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兔子、小白兔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748320" y="5588640"/>
            <a:ext cx="646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t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1" name="Picture 8" descr="pic_30328"/>
          <p:cNvPicPr/>
          <p:nvPr/>
        </p:nvPicPr>
        <p:blipFill>
          <a:blip r:embed="rId1">
            <a:lum contrast="24000"/>
          </a:blip>
          <a:srcRect l="31779" t="55813" r="54309" b="21151"/>
          <a:stretch/>
        </p:blipFill>
        <p:spPr>
          <a:xfrm>
            <a:off x="1042920" y="1268280"/>
            <a:ext cx="3062520" cy="36007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9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4427640" y="1125360"/>
            <a:ext cx="44766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一横像上面的两个树枝，一撇一捺像下面的两个树杈，一竖像中间的干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2258280" y="5157720"/>
            <a:ext cx="79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木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6728760" y="5691240"/>
            <a:ext cx="718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木头、木材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729240" y="5575680"/>
            <a:ext cx="957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m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8" name="Picture 8" descr="pic_30328"/>
          <p:cNvPicPr/>
          <p:nvPr/>
        </p:nvPicPr>
        <p:blipFill>
          <a:blip r:embed="rId1">
            <a:lum contrast="24000"/>
          </a:blip>
          <a:srcRect l="53780" t="55799" r="32304" b="21111"/>
          <a:stretch/>
        </p:blipFill>
        <p:spPr>
          <a:xfrm>
            <a:off x="1020600" y="1197000"/>
            <a:ext cx="3119760" cy="3672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300"/>
                            </p:stCondLst>
                            <p:childTnLst>
                              <p:par>
                                <p:cTn id="18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800"/>
                            </p:stCondLst>
                            <p:childTnLst>
                              <p:par>
                                <p:cTn id="1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427640" y="1562040"/>
            <a:ext cx="44766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禾字的一撇是禾苗上面穗，下面“禾”是禾苗的“杆” 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2258280" y="5157720"/>
            <a:ext cx="79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禾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5857920" y="5661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禾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580920" y="5588640"/>
            <a:ext cx="80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hé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5" name="Picture 8" descr="pic_30328"/>
          <p:cNvPicPr/>
          <p:nvPr/>
        </p:nvPicPr>
        <p:blipFill>
          <a:blip r:embed="rId1">
            <a:lum contrast="30000"/>
          </a:blip>
          <a:srcRect l="68330" t="55326" r="17833" b="21151"/>
          <a:stretch/>
        </p:blipFill>
        <p:spPr>
          <a:xfrm>
            <a:off x="1116000" y="1197000"/>
            <a:ext cx="3043080" cy="3672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9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700"/>
                            </p:stCondLst>
                            <p:childTnLst>
                              <p:par>
                                <p:cTn id="2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200"/>
                            </p:stCondLst>
                            <p:childTnLst>
                              <p:par>
                                <p:cTn id="2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4427640" y="1541520"/>
            <a:ext cx="4476600" cy="102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竹字的上面像竹叶，下面像竹竿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2258280" y="5157720"/>
            <a:ext cx="79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竹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6810480" y="5661000"/>
            <a:ext cx="4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竹叶、竹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595680" y="5588640"/>
            <a:ext cx="1082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zhú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2" name="Picture 9" descr="pic_30328"/>
          <p:cNvPicPr/>
          <p:nvPr/>
        </p:nvPicPr>
        <p:blipFill>
          <a:blip r:embed="rId1">
            <a:lum contrast="24000"/>
          </a:blip>
          <a:srcRect l="83132" t="55806" r="3174" b="21510"/>
          <a:stretch/>
        </p:blipFill>
        <p:spPr>
          <a:xfrm>
            <a:off x="900000" y="1197000"/>
            <a:ext cx="3184560" cy="37432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0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口耳目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700"/>
                            </p:stCondLst>
                            <p:childTnLst>
                              <p:par>
                                <p:cTn id="23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200"/>
                            </p:stCondLst>
                            <p:childTnLst>
                              <p:par>
                                <p:cTn id="24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万润仪器贸易公司</cp:lastModifiedBy>
  <dcterms:modified xsi:type="dcterms:W3CDTF">2020-08-24T01:36:4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